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0.gif" ContentType="image/gif"/>
  <Override PartName="/ppt/media/image12.jpeg" ContentType="image/jpeg"/>
  <Override PartName="/ppt/media/image1.jpeg" ContentType="image/jpeg"/>
  <Override PartName="/ppt/media/image7.png" ContentType="image/pn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1030-041C-4DAF-9A36-A96073945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7940-C553-43E6-B6DA-26626C682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A2E8-5F3C-4441-A120-B5A37CABE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FC1E-D823-4244-B90D-BF92ED19B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368F5-0F9F-443C-8889-ABDC7697E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3FC29-7047-4471-9628-592DCBACF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B2630-CF7D-4C64-A519-E284552D0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614F6-42AF-412C-B4AF-8B1B12592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FFD1A-92CB-4D15-9B1C-9B6DEA541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5BA47-B92E-4F51-926A-369A02B68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D9613-371E-44BF-ABA9-292990E91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D698-5E87-427C-A07F-B8FC34665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28CDC-22A3-431C-B732-22FA0EF80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36CDA-0F60-4777-AC03-28F07B36E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9E61B-449A-4C7E-8FCE-2C48CAFC0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31F9C-0AE9-42D6-A020-94061423A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DB563-C7E8-4457-9295-406A80ABA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470B-F8A2-4BEB-8D23-14C781CA6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DC9F-730E-40F1-82BB-CFFAFA909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68DB-6018-4618-A3C5-26C5358EA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9A14-16AA-41B0-BD1C-1FDF48A3F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7304-2469-4372-8588-60006F5C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1033-05B6-465E-BB55-B300E5AC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A36C-49C2-4FBE-9929-C6678D03A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87609-5B0A-415B-ACED-F83BA2F4CB95}" type="slidenum">
              <a:rPr b="0" lang="ro-RO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2FD94-D43D-4CDF-AE14-257B1B51EAFD}" type="slidenum">
              <a:rPr b="0" lang="ro-RO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2349000"/>
            <a:ext cx="7239240" cy="187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6666"/>
                </a:solidFill>
                <a:latin typeface="Arial"/>
              </a:rPr>
              <a:t>Revoluțiile Epocii Moderne</a:t>
            </a:r>
            <a:br>
              <a:rPr sz="4000"/>
            </a:br>
            <a:r>
              <a:rPr b="0" lang="ro-RO" sz="4000" spc="-1" strike="noStrike">
                <a:solidFill>
                  <a:srgbClr val="006666"/>
                </a:solidFill>
                <a:latin typeface="Arial"/>
              </a:rPr>
              <a:t>                         </a:t>
            </a:r>
            <a:r>
              <a:rPr b="0" lang="ro-RO" sz="3200" spc="-1" strike="noStrike">
                <a:solidFill>
                  <a:srgbClr val="006666"/>
                </a:solidFill>
                <a:latin typeface="Arial"/>
              </a:rPr>
              <a:t>prof. Duca Teodora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4000" y="333360"/>
            <a:ext cx="48956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Verdana"/>
              </a:rPr>
              <a:t>Şcoala cu cls. I-VIII “ Pavel Dan”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Verdana"/>
              </a:rPr>
              <a:t>Tritenii de Jos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Verdana"/>
              </a:rPr>
              <a:t>Jud: Cluj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6666"/>
                </a:solidFill>
                <a:latin typeface="Arial"/>
              </a:rPr>
              <a:t>1.Cauze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370160" y="1827360"/>
            <a:ext cx="3487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-taxa pe timbru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-taxa pe ceai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-lipsa de reprezentare in Parlamentul englez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-comert doar cu metropola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-politica fiscala excesiva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-contraband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Picture 7" descr="270px-13_colonies_in_1775_%28large%29"/>
          <p:cNvPicPr/>
          <p:nvPr/>
        </p:nvPicPr>
        <p:blipFill>
          <a:blip r:embed="rId1"/>
          <a:stretch/>
        </p:blipFill>
        <p:spPr>
          <a:xfrm>
            <a:off x="5494320" y="1827360"/>
            <a:ext cx="2797200" cy="4114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stema anglia"/>
          <p:cNvPicPr/>
          <p:nvPr/>
        </p:nvPicPr>
        <p:blipFill>
          <a:blip r:embed="rId2"/>
          <a:stretch/>
        </p:blipFill>
        <p:spPr>
          <a:xfrm>
            <a:off x="6620040" y="1071720"/>
            <a:ext cx="199368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6666"/>
                </a:solidFill>
                <a:latin typeface="Arial"/>
              </a:rPr>
              <a:t>2.Prologul războiului-Partida de ceai de la Boston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2" name="Picture 11" descr="Boston_Tea_Party-Cooper"/>
          <p:cNvPicPr/>
          <p:nvPr/>
        </p:nvPicPr>
        <p:blipFill>
          <a:blip r:embed="rId1"/>
          <a:stretch/>
        </p:blipFill>
        <p:spPr>
          <a:xfrm>
            <a:off x="5102280" y="2000160"/>
            <a:ext cx="3581280" cy="39290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partida ceai"/>
          <p:cNvPicPr/>
          <p:nvPr/>
        </p:nvPicPr>
        <p:blipFill>
          <a:blip r:embed="rId2"/>
          <a:stretch/>
        </p:blipFill>
        <p:spPr>
          <a:xfrm>
            <a:off x="1370160" y="2000160"/>
            <a:ext cx="35798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6666"/>
                </a:solidFill>
                <a:latin typeface="Arial"/>
              </a:rPr>
              <a:t>3.Declarația de independență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71320" y="2000160"/>
            <a:ext cx="4143240" cy="39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rezentanţii celor 13 colonii se reunesc într-un nou congres la Phiadelphia. La 4 iulie 1776 este adoptată “Declaraţia de independenţă”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, document redactat de Thomas Jeffer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Picture 8" descr="drapeau07"/>
          <p:cNvPicPr/>
          <p:nvPr/>
        </p:nvPicPr>
        <p:blipFill>
          <a:blip r:embed="rId1"/>
          <a:stretch/>
        </p:blipFill>
        <p:spPr>
          <a:xfrm>
            <a:off x="6629400" y="304920"/>
            <a:ext cx="2286000" cy="12697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Declaration_independence"/>
          <p:cNvPicPr/>
          <p:nvPr/>
        </p:nvPicPr>
        <p:blipFill>
          <a:blip r:embed="rId2"/>
          <a:stretch/>
        </p:blipFill>
        <p:spPr>
          <a:xfrm>
            <a:off x="5102280" y="2000160"/>
            <a:ext cx="382752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6666"/>
                </a:solidFill>
                <a:latin typeface="Arial"/>
              </a:rPr>
              <a:t>4.Desfasurarea si sfarsitul razboiului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928800" y="1827360"/>
            <a:ext cx="4021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În 1781, în bătălia de la Yorktown, armatele americane şi franceze obţi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 victorie decisiv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În 1783 s-a încheiat tratatul de pace de la Versailles, prin care Anglia recunoaşte independenţa fostelor coloni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Picture 8" descr="280px-Yorktown80"/>
          <p:cNvPicPr/>
          <p:nvPr/>
        </p:nvPicPr>
        <p:blipFill>
          <a:blip r:embed="rId1"/>
          <a:stretch/>
        </p:blipFill>
        <p:spPr>
          <a:xfrm>
            <a:off x="5214960" y="4357800"/>
            <a:ext cx="3071880" cy="25002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yorktown_map"/>
          <p:cNvPicPr/>
          <p:nvPr/>
        </p:nvPicPr>
        <p:blipFill>
          <a:blip r:embed="rId2"/>
          <a:stretch/>
        </p:blipFill>
        <p:spPr>
          <a:xfrm>
            <a:off x="5214960" y="1571760"/>
            <a:ext cx="30686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6666"/>
                </a:solidFill>
                <a:latin typeface="Arial"/>
              </a:rPr>
              <a:t>              </a:t>
            </a:r>
            <a:r>
              <a:rPr b="0" lang="ro-RO" sz="3600" spc="-1" strike="noStrike">
                <a:solidFill>
                  <a:srgbClr val="006666"/>
                </a:solidFill>
                <a:latin typeface="Arial"/>
              </a:rPr>
              <a:t>Revoluția Franceză</a:t>
            </a:r>
            <a:br>
              <a:rPr sz="3600"/>
            </a:br>
            <a:r>
              <a:rPr b="0" lang="ro-RO" sz="2800" spc="-1" strike="noStrike">
                <a:solidFill>
                  <a:srgbClr val="006666"/>
                </a:solidFill>
                <a:latin typeface="Arial"/>
              </a:rPr>
              <a:t>1.Cauze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857480" y="1827360"/>
            <a:ext cx="4071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pozi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ț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a sistemului politic francez fa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ță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de ideile iluministe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tradic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ț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a dintre 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î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cercarea de uniformizare 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î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treprins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ă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de stat 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ș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 existen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ț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 societ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ăț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i de ranguri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Burghezia nu particip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ă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la via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ț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 public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ă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riza financiar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ă;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omajul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Content Placeholder 4" descr="exprimarea unui principiul al revolutiei- libertatea"/>
          <p:cNvPicPr/>
          <p:nvPr/>
        </p:nvPicPr>
        <p:blipFill>
          <a:blip r:embed="rId1"/>
          <a:stretch/>
        </p:blipFill>
        <p:spPr>
          <a:xfrm>
            <a:off x="1428840" y="1857240"/>
            <a:ext cx="328608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6666"/>
                </a:solidFill>
                <a:latin typeface="Arial"/>
              </a:rPr>
              <a:t>2.Etape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gele Ludovic al XVI-lea convoaca Adunarea Starilor Generale - 5 mai 1789-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reprezentantii starii a III-a se declara Adunare Nationala Constituant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regele a mobilizat armata pentru a dizolva Adunarea, dar populatia Parisului se opune, ridicandu-se la lupta si formand Garda National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4 IULIE 1789 –caderea BASTILIEI, inchisoarea politica a Frantei (astazi este Ziua Nationala a Frantei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Content Placeholder 4" descr="caderea bastiliei"/>
          <p:cNvPicPr/>
          <p:nvPr/>
        </p:nvPicPr>
        <p:blipFill>
          <a:blip r:embed="rId1"/>
          <a:stretch/>
        </p:blipFill>
        <p:spPr>
          <a:xfrm>
            <a:off x="5114880" y="2000160"/>
            <a:ext cx="35560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6666"/>
                </a:solidFill>
                <a:latin typeface="Arial"/>
              </a:rPr>
              <a:t>3.Monarhia Constitutionala si Republica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785520" y="1827360"/>
            <a:ext cx="4164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6 august 1789 –se adopta “Declaratia Drepturilor Omului si Cetateanului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unarea Legislativa devine Conventie Nationala si aceasta proclama REPUBLIC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Are 2 orientari: Iacobinii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i Girondini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Content Placeholder 4" descr="-Declaration_of_Human_Rights"/>
          <p:cNvPicPr/>
          <p:nvPr/>
        </p:nvPicPr>
        <p:blipFill>
          <a:blip r:embed="rId1"/>
          <a:stretch/>
        </p:blipFill>
        <p:spPr>
          <a:xfrm>
            <a:off x="4857840" y="1643040"/>
            <a:ext cx="392904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6666"/>
                </a:solidFill>
                <a:latin typeface="Arial"/>
              </a:rPr>
              <a:t>Evaluar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900" spc="-1" strike="noStrike">
                <a:solidFill>
                  <a:srgbClr val="000000"/>
                </a:solidFill>
                <a:latin typeface="Arial"/>
              </a:rPr>
              <a:t>Pe parcursul proiectului, prin fişe de evaluare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900" spc="-1" strike="noStrike">
                <a:solidFill>
                  <a:srgbClr val="000000"/>
                </a:solidFill>
                <a:latin typeface="Arial"/>
              </a:rPr>
              <a:t>Evaluarea sumativă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proiecte şi portofoli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6666"/>
                </a:solidFill>
                <a:latin typeface="Arial"/>
              </a:rPr>
              <a:t>Bibliografie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71720" y="1571760"/>
            <a:ext cx="761184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Manuale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Liviu Burlec, Liviu Lazăr, Bogdan Teodorescu, </a:t>
            </a:r>
            <a:r>
              <a:rPr b="0" i="1" lang="ro-RO" sz="1600" spc="-1" strike="noStrike">
                <a:solidFill>
                  <a:srgbClr val="000000"/>
                </a:solidFill>
                <a:latin typeface="Arial"/>
              </a:rPr>
              <a:t>Istorie, manual pentru clasa a VI-a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, Editura All,1998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ANDREI Pippidi, Monica Dvorski, Ioan Grosu,</a:t>
            </a:r>
            <a:r>
              <a:rPr b="0" i="1" lang="ro-RO" sz="1600" spc="-1" strike="noStrike">
                <a:solidFill>
                  <a:srgbClr val="000000"/>
                </a:solidFill>
                <a:latin typeface="Arial"/>
              </a:rPr>
              <a:t>Istorie, manual pentru clasa  a VI-a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, Editura Corint, 200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Lucrări tipărite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Helie Jerome, </a:t>
            </a:r>
            <a:r>
              <a:rPr b="0" i="1" lang="ro-RO" sz="1600" spc="-1" strike="noStrike">
                <a:solidFill>
                  <a:srgbClr val="000000"/>
                </a:solidFill>
                <a:latin typeface="Arial"/>
              </a:rPr>
              <a:t>Mic atlas istoric al Timpurilor moderne,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Polirom,200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Almas, Dumitru, </a:t>
            </a:r>
            <a:r>
              <a:rPr b="0" i="1" lang="ro-RO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o-RO" sz="1600" spc="-1" strike="noStrike">
                <a:solidFill>
                  <a:srgbClr val="000000"/>
                </a:solidFill>
                <a:latin typeface="Arial"/>
              </a:rPr>
              <a:t>derea Bastiliei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, Bucuresti, 1959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Berstein Serge, Milza Pierre, </a:t>
            </a:r>
            <a:r>
              <a:rPr b="0" i="1" lang="ro-RO" sz="1600" spc="-1" strike="noStrike">
                <a:solidFill>
                  <a:srgbClr val="000000"/>
                </a:solidFill>
                <a:latin typeface="Arial"/>
              </a:rPr>
              <a:t>Istoria Europei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, vol. 3, Iasi, Institutul European, 1998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Internet(Site-uri)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 u="sng">
                <a:solidFill>
                  <a:srgbClr val="000000"/>
                </a:solidFill>
                <a:uFillTx/>
                <a:latin typeface="Arial"/>
              </a:rPr>
              <a:t>http://www.e-scoala.ro/informatica/index.html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 u="sng">
                <a:solidFill>
                  <a:srgbClr val="000000"/>
                </a:solidFill>
                <a:uFillTx/>
                <a:latin typeface="Arial"/>
              </a:rPr>
              <a:t>http://ro.wikipedia.org/wiki/Portal:Educaţie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 u="sng">
                <a:solidFill>
                  <a:srgbClr val="000000"/>
                </a:solidFill>
                <a:uFillTx/>
                <a:latin typeface="Arial"/>
              </a:rPr>
              <a:t>www.didactic.r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www.referat</a:t>
            </a:r>
            <a:r>
              <a:rPr b="0" lang="ro-RO" sz="1600" spc="-1" strike="noStrike" u="sng">
                <a:solidFill>
                  <a:srgbClr val="000000"/>
                </a:solidFill>
                <a:uFillTx/>
                <a:latin typeface="Arial"/>
              </a:rPr>
              <a:t>e.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ro/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9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6666"/>
                </a:solidFill>
                <a:latin typeface="Arial"/>
              </a:rPr>
              <a:t>Ce este o revoluție 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-360" y="1571400"/>
            <a:ext cx="500076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Revoluția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este un proces istoric prin care se schimbă sistemul de guvernare și structurile economice ale statulu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aracteristici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nuntarea la absolutismu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narhic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- 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dernizarea sistemului politic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- I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temeiere  natiunii  sub influenta Iluminismulu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- 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nciparea individului,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nsformarea lui din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supu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etatean</a:t>
            </a:r>
            <a:r>
              <a:rPr b="1" lang="ro-RO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Content Placeholder 7" descr="300px-Reception_of_the_American_Loyalists"/>
          <p:cNvPicPr/>
          <p:nvPr/>
        </p:nvPicPr>
        <p:blipFill>
          <a:blip r:embed="rId1"/>
          <a:stretch/>
        </p:blipFill>
        <p:spPr>
          <a:xfrm>
            <a:off x="5072040" y="1714680"/>
            <a:ext cx="3857760" cy="47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6666"/>
                </a:solidFill>
                <a:latin typeface="Arial"/>
              </a:rPr>
              <a:t>               </a:t>
            </a:r>
            <a:r>
              <a:rPr b="0" lang="ro-RO" sz="3600" spc="-1" strike="noStrike">
                <a:solidFill>
                  <a:srgbClr val="006666"/>
                </a:solidFill>
                <a:latin typeface="Arial"/>
              </a:rPr>
              <a:t>Revoluția engleză</a:t>
            </a:r>
            <a:br>
              <a:rPr sz="3600"/>
            </a:br>
            <a:r>
              <a:rPr b="0" lang="ro-RO" sz="2400" spc="-1" strike="noStrike">
                <a:solidFill>
                  <a:srgbClr val="8ab9b9"/>
                </a:solidFill>
                <a:latin typeface="Arial"/>
              </a:rPr>
              <a:t>1.Cauze: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685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onflict religios și politic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între Rege și Parlamen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8ab9b9"/>
                </a:solidFill>
                <a:latin typeface="Arial"/>
              </a:rPr>
              <a:t>Cauza imediată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Razboaiele secatuiesc vistieria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ngliei. 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Regele Carol I Stuart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este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nevoit să convoace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arlamentul,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pentru a vota noi impozit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Parlamentarii refuză noile impozit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şi impun regelui să semneze Petiţia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dreptului (1628)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Regele semnează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actul, dar în scurt timp dizolvă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arlamentul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102280" y="182736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2" descr="http://upload.wikimedia.org/wikipedia/commons/thumb/2/25/Karl_I_av_England%2C_m%C3%A5lning_av_Anthonis_van_Dyck_fr%C3%A5n_1632.jpg/200px-Karl_I_av_England%2C_m%C3%A5lning_av_Anthonis_van_Dyck_fr%C3%A5n_1632.jpg"/>
          <p:cNvPicPr/>
          <p:nvPr/>
        </p:nvPicPr>
        <p:blipFill>
          <a:blip r:embed="rId1"/>
          <a:stretch/>
        </p:blipFill>
        <p:spPr>
          <a:xfrm>
            <a:off x="5214960" y="2000160"/>
            <a:ext cx="27147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6666"/>
                </a:solidFill>
                <a:latin typeface="Arial"/>
              </a:rPr>
              <a:t>2. Desfașurarea Revoluției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102280" y="1827000"/>
            <a:ext cx="35812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900" spc="-1" strike="noStrike">
                <a:solidFill>
                  <a:srgbClr val="000000"/>
                </a:solidFill>
                <a:latin typeface="Verdana"/>
              </a:rPr>
              <a:t>Faza Parlamentară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102280" y="3960720"/>
            <a:ext cx="35812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900" spc="-1" strike="noStrike">
                <a:solidFill>
                  <a:srgbClr val="000000"/>
                </a:solidFill>
                <a:latin typeface="Verdana"/>
              </a:rPr>
              <a:t>Războiul civil Rege-Parlame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2" descr="FFA8818C"/>
          <p:cNvPicPr/>
          <p:nvPr/>
        </p:nvPicPr>
        <p:blipFill>
          <a:blip r:embed="rId1"/>
          <a:stretch/>
        </p:blipFill>
        <p:spPr>
          <a:xfrm>
            <a:off x="1357200" y="1857240"/>
            <a:ext cx="3571920" cy="40719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85560" y="356760"/>
            <a:ext cx="7313400" cy="77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6666"/>
                </a:solidFill>
                <a:latin typeface="Arial"/>
              </a:rPr>
              <a:t>3.Republica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451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Î</a:t>
            </a:r>
            <a:r>
              <a:rPr b="0" lang="vi-VN" sz="1800" spc="-1" strike="noStrike">
                <a:solidFill>
                  <a:srgbClr val="000000"/>
                </a:solidFill>
                <a:latin typeface="Verdana"/>
              </a:rPr>
              <a:t>n 1649 se proclamă Republica, în care puterea legislativă aparţinea Parlamentului, iar cea executivă unui Consiliu de stat, format din 40 de membri, dar în care Oliver Cromwell avea rolul hotărâto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vi-VN" sz="1800" spc="-1" strike="noStrike">
                <a:solidFill>
                  <a:srgbClr val="000000"/>
                </a:solidFill>
                <a:latin typeface="Verdana"/>
              </a:rPr>
              <a:t>În plan extern, Parlamentul cel Lung şi Consiliul de Stat au elaborat o serie de măsuri care vizau cucerirea unor teritorii (Scoţia şi Irlanda). S-a organizat o campanie militară împotriva revoltei catolicilor irlandezi şi una împotriva încercării scoţienilor de a-l impune pe fiul lui Carol ca reg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vi-VN" sz="1800" spc="-1" strike="noStrike">
                <a:solidFill>
                  <a:srgbClr val="000000"/>
                </a:solidFill>
                <a:latin typeface="Verdana"/>
              </a:rPr>
              <a:t>Parlamentul dorind să consolideze poziţia burgheziei engleze, va adopta aşezăminte care vizau comerţul şi navigaţia. Astfel, în 1651, adoptă Actul de navigaţie, prin care se proclam</a:t>
            </a: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ă </a:t>
            </a:r>
            <a:r>
              <a:rPr b="0" lang="vi-VN" sz="1800" spc="-1" strike="noStrike">
                <a:solidFill>
                  <a:srgbClr val="000000"/>
                </a:solidFill>
                <a:latin typeface="Verdana"/>
              </a:rPr>
              <a:t>monopolul de stat asupra tuturor importurilor, ceea ce punea capăt primatului olandez în comerţul maritim spre Angli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6666"/>
                </a:solidFill>
                <a:latin typeface="Arial"/>
              </a:rPr>
              <a:t>4.Protectoratul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130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vi-VN" sz="2000" spc="-1" strike="noStrike">
                <a:solidFill>
                  <a:srgbClr val="000000"/>
                </a:solidFill>
                <a:latin typeface="Verdana"/>
              </a:rPr>
              <a:t>Cromwell îşi impune, treptat, autoritatea, culminând cu dizolvarea "Parlamentului cel Lung" (1653) şi promulgarea a diferite instrumente de guvernare prin care se instituia în Anglia o dictatură militară numită protectorat. Puterea executivă a fost încredinţată lordului protector Oliver Cromwell şi unui Consiliu format din 21 de membri. Puterea legislativă a aparţinut lordului protector şi parlamentului unicameral. Dreptul la vot rămâne cenzitar; catolicii şi regaliştii au fost excluşi din viaţa politic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8ab9b9"/>
                </a:solidFill>
                <a:latin typeface="Arial"/>
              </a:rPr>
              <a:t>5.Restauratia Stuartilo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Restauraţia stuarţilor a apărut ca o soluţie acceptabilă atât pentru burghezie cât şi pentru mare parte a nobilimii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În perioada 1660 - 1688, cât a dura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estauraţia, pe tronul Angliei s-au succedat Carol al II-lea Stuart (1660 - 1685) şi Iacob al II-lea Stuart (1685 - 1688 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6666"/>
                </a:solidFill>
                <a:latin typeface="Arial"/>
              </a:rPr>
              <a:t>6.Revolutia glorioasa</a:t>
            </a:r>
            <a:r>
              <a:rPr b="0" lang="ro-RO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1" name="Picture 2" descr="Imagine:William III of England.jpg"/>
          <p:cNvPicPr/>
          <p:nvPr/>
        </p:nvPicPr>
        <p:blipFill>
          <a:blip r:embed="rId1"/>
          <a:stretch/>
        </p:blipFill>
        <p:spPr>
          <a:xfrm>
            <a:off x="6143760" y="2000160"/>
            <a:ext cx="2857320" cy="442908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7"/>
          <p:cNvSpPr/>
          <p:nvPr/>
        </p:nvSpPr>
        <p:spPr>
          <a:xfrm>
            <a:off x="785880" y="1785960"/>
            <a:ext cx="4857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Instalarea în nov. 1688 ca regent al Angliei, fără nici un fel de incident, a lui Wilhelm al III-lea de Orania-Nassau a intrat în istorie sub numele de ,,Revoluţia glorioasă”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1000080" y="335772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Revoluţia engleză a impus în lume modelul monarhiei constituţionale (nota bene: Anglia nu are o constituţie, în înţelesul modern al cuvântului, ci un pachet de legi care practic fac cât o constituţie, de aceea o numim monarhie parlamentară), bazată pe principiul separării puterilor în st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6666"/>
                </a:solidFill>
                <a:latin typeface="Arial"/>
              </a:rPr>
              <a:t>Revolutia american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În perioada 1584-1733, pe coasta răsăriteană a Americii de Nord s-au intemeiat 13 colonii populate cu europeni proveniţi din vestul Europei. Treptat, toate aceste colonii intră sub stăpânire englez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Picture 7" descr="Map_of_territorial_growth_1775"/>
          <p:cNvPicPr/>
          <p:nvPr/>
        </p:nvPicPr>
        <p:blipFill>
          <a:blip r:embed="rId1"/>
          <a:stretch/>
        </p:blipFill>
        <p:spPr>
          <a:xfrm>
            <a:off x="5299200" y="1827360"/>
            <a:ext cx="3187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1T15:25:52Z</dcterms:created>
  <dc:creator>Teo</dc:creator>
  <dc:description/>
  <dc:language>en-US</dc:language>
  <cp:lastModifiedBy>Alexandra</cp:lastModifiedBy>
  <dcterms:modified xsi:type="dcterms:W3CDTF">2010-05-25T17:34:02Z</dcterms:modified>
  <cp:revision>23</cp:revision>
  <dc:subject/>
  <dc:title>Fenomene termice</dc:title>
</cp:coreProperties>
</file>